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CBF-E3D5-4F7A-A07F-64D73E04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A21-79EE-4224-BF6E-1CCDF00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B9E-23CE-4863-8B13-2E1CD7A1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2E5-4A1A-4CBE-9EDB-BC5323C5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549-DFC4-4D03-AE77-F3EC058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B3C-8D49-4D9D-A248-52A5B23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7CF-AF14-48C5-A4ED-EC49D0F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10F-F215-4542-B500-BFE27A6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397-CC01-4816-8C4F-481F6619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38D-B2D7-477E-8A36-9F2F97E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338-96D7-4EE4-813F-3B7CDAA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85C-F0E4-4F0D-BDE5-41B604EB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8B1-788A-4457-9F09-3BBF427E6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28796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running.gif"/>
          <p:cNvPicPr/>
          <p:nvPr/>
        </p:nvPicPr>
        <p:blipFill>
          <a:blip r:embed="rId1"/>
          <a:stretch/>
        </p:blipFill>
        <p:spPr>
          <a:xfrm>
            <a:off x="163836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kneeling.gif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8:33:29Z</dcterms:created>
  <dc:creator>claremills</dc:creator>
  <dc:description/>
  <dc:language>en-US</dc:language>
  <cp:lastModifiedBy>Elizabeth Clement</cp:lastModifiedBy>
  <dcterms:modified xsi:type="dcterms:W3CDTF">2018-05-22T10:50:58Z</dcterms:modified>
  <cp:revision>3</cp:revision>
  <dc:subject/>
  <dc:title>Slide 1</dc:title>
</cp:coreProperties>
</file>